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F74-9CCD-4E94-8C7E-EA589FF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78D-1E4F-4EAA-AC68-A8DA325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36F-D7DD-4F4E-8646-57F8FC56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88B-CEE3-476C-BD4E-6FDB6420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29B-434B-4431-9192-DFC3DA9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A0E-BFEE-4286-9DB3-3F089E52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3BC-1315-43ED-A177-62DE86C8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AA8-B917-4288-B10D-A5A57C24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196-C20A-47AD-A270-241D6D3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A8D-FE41-4EE8-AB48-A1CE9C3E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BEC-DBD5-464C-8E1D-882EBCC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28A-46F5-4781-9E5A-B84232E4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741-A042-4C85-9CFA-6069E092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11640" y="260280"/>
            <a:ext cx="4716360" cy="35370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250920" y="3860640"/>
            <a:ext cx="47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27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н Исус е възлю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лко благ към мен е бил!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, да бъда аз готов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да приема таз люб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38920" y="260280"/>
            <a:ext cx="2954160" cy="410544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504720" y="3716280"/>
            <a:ext cx="55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лкоз ме обича Той,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че небесния покой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 радост Той за мен презря, слезе тука и умря!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3887640" cy="291636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395280" y="393372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Горе в слава при Отц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люби малките деца;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е са грешни - Той е благ; те са слаби - Той е я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3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9400" y="333360"/>
            <a:ext cx="4530600" cy="339876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81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324000" y="41497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ко тука слушам аз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з любезен Негов глас, мене Той ще прибер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горе в светлото небе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816360" cy="3054600"/>
          </a:xfrm>
          <a:prstGeom prst="rect">
            <a:avLst/>
          </a:prstGeom>
          <a:ln w="38160">
            <a:solidFill>
              <a:srgbClr val="ffff66"/>
            </a:solidFill>
            <a:miter/>
          </a:ln>
          <a:effectLst>
            <a:outerShdw dist="107932" dir="2700000" blurRad="0" rotWithShape="0">
              <a:srgbClr val="ffff66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4427640" y="3933720"/>
            <a:ext cx="44654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ccec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сус обича, мене обича, Той ме нарича </a:t>
            </a: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вое агън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58:36Z</dcterms:created>
  <dc:creator>TrifonTrifonow</dc:creator>
  <dc:description/>
  <dc:language>en-US</dc:language>
  <cp:lastModifiedBy>TrifonTrifonow</cp:lastModifiedBy>
  <dcterms:modified xsi:type="dcterms:W3CDTF">2005-12-08T10:29:22Z</dcterms:modified>
  <cp:revision>16</cp:revision>
  <dc:subject/>
  <dc:title>Slide 1</dc:title>
</cp:coreProperties>
</file>